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346A-565A-4551-AA27-8160A1B16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CA5E-0FE2-4882-98E5-0DEF85779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5865-55E1-4B39-8852-BB01A58A7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23ED-A5E4-4868-9AC4-208415D81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FC80-FDF7-456B-AEFA-98234CC96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9374-7403-4D6F-95BF-C43950C76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66B-566A-491B-A0FF-8A0B4B19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6D9-356D-4AA4-A77F-C22632E0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5CE-99B1-4F0F-8D87-A3919468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C88-E822-4F35-82B3-E3452C69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0727-6F84-4E77-B3C8-47C00302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8D1A-0FA6-48C1-A58B-877174A6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F516-DB1A-4431-BE9A-393A7E2A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9B1E-183E-4E9B-9391-0A755462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1B91-B288-4974-B476-93A87EA6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8CA7-322B-4481-AF20-607BBC78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B5FC-A2AD-4C03-8703-8F5196A8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59C-56A3-408E-94A3-F397100E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4415-6874-489E-B8AF-1396C68C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52B1-077F-4F21-8114-E8D6ED99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FFA5-6476-40B0-BF38-52FC5088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9779-9874-4F25-9BA7-97A64AF5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9DE8-B1C1-46F7-80B7-A2B9A56B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B43-AD32-4C5F-88A3-1F4E4259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E7A-E54B-49E1-97E9-3C82A3D7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00F-4C2F-4484-97CC-7CE0A065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90E-9215-4975-9049-0D88CC33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271-FED7-4B2B-A7E5-DD84C96D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F7C-1611-495E-8434-4B19192C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D7A-7062-4D86-8180-9E5E71A8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2E49-3DD8-47F8-8E15-52538692D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Overall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049C754-36AB-4C05-B6D6-E8534366211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Overall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B9808A8-81B4-4BA6-987E-E5DA3D26E8D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3BD2-9CAC-4066-9187-0BAE4D5B4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Verdana"/>
              </a:rPr>
              <a:t>Coordenação Ge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720" y="130320"/>
            <a:ext cx="85899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Definir os canais de informação durante as operações de resposta à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municar regularmente com a imprensa nacional e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 nível local, com a ajuda de parceiros internacionais, criar uma comissão de coordenação técnica e científica internacional para coordenar as medidas de controlo da epidemia que será responsável pela organização das actividades diárias das equipas no terre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reuniões de coordenação e monitorizar as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a coordenação com os serviços responsáveis pela saúde animal na vida selv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ques 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rviços veterin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egurar uma rotação regular d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F:\Ebola July 2014 documents_YZ\SLE EBOLA RESPONSE PHOTO LIBRARY\7   Sierra Leone Ebola_Photo credit_WHO Saffea Gborie.jpg"/>
          <p:cNvPicPr/>
          <p:nvPr/>
        </p:nvPicPr>
        <p:blipFill>
          <a:blip r:embed="rId1"/>
          <a:stretch/>
        </p:blipFill>
        <p:spPr>
          <a:xfrm>
            <a:off x="4444920" y="2073240"/>
            <a:ext cx="4407120" cy="2940120"/>
          </a:xfrm>
          <a:prstGeom prst="rect">
            <a:avLst/>
          </a:prstGeom>
          <a:ln w="0">
            <a:noFill/>
          </a:ln>
        </p:spPr>
      </p:pic>
      <p:sp>
        <p:nvSpPr>
          <p:cNvPr id="120" name="Title 1"/>
          <p:cNvSpPr/>
          <p:nvPr/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Evitar a aplicação de medidas restritivas, de acordo com o RSI (20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o fim do relatóri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o, Administrativo, Financeiro e Log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o impacto económico e social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a gestã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om base nas experiências adquiridas, fazer recomendações para a prevenção e gestão de futuras epidemi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xemplo de um EOC/IMC de EV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492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365040" y="981000"/>
            <a:ext cx="7907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Operacionalização do EOC/I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7300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dentificar e nomear pessoal para diferentes áreas t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riar o espaço para o E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esenvolver termos de referência e actividades prioritárias para orientar o trabalho de cada área temática (Grupo de Acção do Ébola: ETF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locar pessoal, desenvolver listas de materiais e necessidades financeiras, assim como um plano operacional com objectivos definidos (grupos de áreas temátic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ver e aprovar os planos operacionais (ETF) e os recursos necessá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Nomear parceiros técnicos para as várias áreas temáticas com base nas suas competê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708280"/>
            <a:ext cx="7772400" cy="1362240"/>
          </a:xfrm>
          <a:prstGeom prst="rect">
            <a:avLst/>
          </a:prstGeom>
          <a:solidFill>
            <a:srgbClr val="7575d1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OMISSÃO DE COORDENAÇÃO LOCAL (DISTR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0160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tura da Comissão de Coordenação Lo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CCL está dividida em subcomissões que reflectem os princípios básicos de combate à EVD, nomead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igilância e laborató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estão de casos e controlo de infec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obilização social 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oio psicos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ogística e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F:\Ebola July 2014 documents_YZ\SLE EBOLA RESPONSE PHOTO LIBRARY\12 WHO Mobile lab equipment for Kailahun ebola outbreak_WHO Saffea Gborie.jpg"/>
          <p:cNvPicPr/>
          <p:nvPr/>
        </p:nvPicPr>
        <p:blipFill>
          <a:blip r:embed="rId1"/>
          <a:stretch/>
        </p:blipFill>
        <p:spPr>
          <a:xfrm>
            <a:off x="4648320" y="2276640"/>
            <a:ext cx="43974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82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missão de Coordenação Local: Composi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esidente do Conselh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o-assistente local / Equipa de Gestão d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selheiros, Técnicos Distri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supr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de Depart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de Agências de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resentante das Organizações da Sociedade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íderes Religi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ções Internacionais, Nacionais e Parceiros Locais (OMS, CDC, MSF, ONG, Organizações com base na Comunidade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578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missão de Coordenação Local: Pap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ordena todos os aspectos de coordenação da resposta no terreno de acordo com as directivas d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voca reuniões diárias para coordenar a resposta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obiliza e aloca recursos para a resposta a su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duz relatórios de situação diários e comunica com 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aliza quaisquer outras funções atribuídas pel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t-PT" sz="4400" spc="-1" strike="noStrike">
                <a:solidFill>
                  <a:srgbClr val="ffffff"/>
                </a:solidFill>
                <a:latin typeface="Arial"/>
              </a:rPr>
              <a:t>Obrigad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Os Ministros da Saúde e outros líderes sanitários devem assumir um papel de liderança proeminente na coordenação e implementação das medidas de resposta de emergência ao Ébola…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claração da Directora-Geral da OMS na Reunião da Comissão de Emergência do RSI relativamente ao Surto do Ébola na África Ocidental de 2014. 8 de Agosto de 21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0000"/>
                </a:solidFill>
                <a:latin typeface="Arial"/>
              </a:rPr>
              <a:t>Objectivos da Sessã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844640"/>
            <a:ext cx="8686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bjectiv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 final da sessão, os participantes devem dominar a coordenação da preparação e resposta à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0000"/>
                </a:solidFill>
                <a:latin typeface="Arial"/>
              </a:rPr>
              <a:t>Objectivos da Sessão (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560" y="126828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bjectivos Intermé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alçar o papel da commissão de coordenação sobre 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screver a composição e termos de referência da comissão de coorde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sumir as actividades da comissão de coordenação a nível distrital (lo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ornecer um exemplo de um EOC/I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9664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 multissecto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issão nacional de coordenaçã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Composi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apé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xemplo de EOC/I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issão de Coordenação Local (Distrital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Composi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apéis e taref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: Estratégia multidiscipl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49440" y="1114560"/>
            <a:ext cx="66945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strutura da Comissão Nacional de Coordenação (ET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Content Placeholder 4" descr=""/>
          <p:cNvPicPr/>
          <p:nvPr/>
        </p:nvPicPr>
        <p:blipFill>
          <a:blip r:embed="rId1"/>
          <a:stretch/>
        </p:blipFill>
        <p:spPr>
          <a:xfrm>
            <a:off x="450720" y="1603440"/>
            <a:ext cx="82425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2196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omissão Nacional de Coordenação: Composiçã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liderança nacional é da máxima importância e a composição pode variar de país para país, mas é essencialm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critório do Presidente;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érios da Saúde, Finanças, Agricultura, Veterinário, Serviços Sociais, Educação e Defesa, etc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ceiros internacionais e locais: por exemplo, OMS, MSF, CDC, UNICEF, USAID, FAO, IEO, Cruz Vermelha/Crescente Vermelho, IFRC, etc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upos de interesses especiais: indústrias extractivas (mineira, petrolífera, madeira), turismo, companhias aéreas, et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19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apel da Comissão Nacional de Coorden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papel da comissão é assegurar a coordenação geral das operações, actividades de prevenção e controlo de epidemias e mobilização de recurso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provar as estratégias de controlo da epidemia do Ébola recomendadas pela 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senvolver um plano de acção detalhado para a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as responsabilidades das diferente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Organizar a mobilização de recursos em colaboração com os parcei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User</cp:lastModifiedBy>
  <cp:lastPrinted>2013-10-01T07:19:12Z</cp:lastPrinted>
  <dcterms:modified xsi:type="dcterms:W3CDTF">2014-11-29T16:39:34Z</dcterms:modified>
  <cp:revision>234</cp:revision>
  <dc:subject/>
  <dc:title>DPC Training and Technical Update</dc:title>
</cp:coreProperties>
</file>